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D17-3557-47EC-9ED7-A693EFE57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49ED-22AE-4C80-B096-376DCCD92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Enlarging raster graphics causes them to become pixelated (you can see the individual blocks of colors that make up the imag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F4A5-5F12-40F4-8B01-A5B2F568C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230-053F-4F04-985F-3D85ADD21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6D3-6771-4DFB-A236-DFBFD8EEA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This format is best for images containing many colors or shades of color. Most digital cameras save the images made with the camera as JPEG files on their memory c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9C76-F445-46BE-B50A-683FE3905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When editing images, all the changes would be made to the BMP file. When the user is satisfied with the final image, they would then save the BMP as a different file format depending on their intended use of the image. (For example, if it will be used on a website, the images would be saved as a compressed file format such as GIF or JPE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on-screen display, this means displayed on the monitor but is referring to images that are on the desktop computer, not from Internet web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B854-E6EA-4C0F-876A-E86E6CDB9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Browser software or image editing program may require the user to download a plug-in before recognizing or opening the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FF4-BA70-4836-930D-CE347AE60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TIFF images have very high quality which is ideal for faxes or printed images, such as those used in desktop publishing. However, this results in a large file size so it is not recommended for images that will be viewed over the Inter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4120-3706-40B7-9813-585ADAC41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253-73D2-45AE-AEE1-90F49564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457-2948-4F5B-9D66-5D5C511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E22-5016-4F9C-9C63-6E9FB22F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2EC-653A-45F0-9495-31236DBB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1006-4128-47F5-9481-3C43B36E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83DB-2639-41C1-8850-3A41E19F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8AA9-825B-4C85-B60B-63E7954F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235-2AD1-496D-9681-C14DDF3C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17B0-8CF1-4AC7-BD15-3AA0BD90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4186-09FA-4F44-B67B-AC6B6894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8E5-F22F-4452-AB99-B980E0E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C51-CEC0-44F3-B4B0-8ED8E63B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A70F-4A00-451C-9833-D28AE27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DE1-7D33-4101-8F41-95A8F62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0C2D-E8DB-4E0B-B03A-139B29C3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B9DA-C8F9-4169-8C66-D109391E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EB46-FDAF-4E7E-A7E8-810FC9C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D27-8D65-464F-A0F8-7D67368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358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729040" y="12189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14300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358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729040" y="368676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A34-33A5-4DCE-A090-E182A83A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EDF-948F-4751-9EEC-037E6ED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4A7-32E2-4353-BAC8-78DB8B08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778-E3A3-400A-959B-D5C3A3F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080" y="36867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9E9-098E-4F8E-9F4F-0F578E2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8080" y="121896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68676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36C-8E4C-4F58-AB01-71B98E4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833B-FAB4-4F8D-97CF-9A140F656847}" type="datetime">
              <a:rPr b="0" lang="en-US" sz="1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355-1AC8-4B2A-8169-934C697E45D4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8249-EDAC-44C2-BB98-63C7B416BF10}" type="datetime">
              <a:rPr b="0" lang="en-US" sz="1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F5A2-B9F0-4F34-AFBA-7F23166823C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cssoft.about.com/od/freedownloads/l/blfreepng07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aster Graphic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01 Investigate graphic image desig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ster Graph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tma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st of grids of tiny dots called pix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 fixed resolution and cannot be resized without altering image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ited in paint progra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bitmapicon"/>
          <p:cNvPicPr/>
          <p:nvPr/>
        </p:nvPicPr>
        <p:blipFill>
          <a:blip r:embed="rId1"/>
          <a:stretch/>
        </p:blipFill>
        <p:spPr>
          <a:xfrm>
            <a:off x="5562720" y="1905120"/>
            <a:ext cx="2819160" cy="2819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4952880" y="5029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map 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562720" y="4724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e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 flipH="1" flipV="1">
            <a:off x="6552720" y="388620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733920" y="624852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:  http://graphicssoft.about.com/od/aboutgraphics/a/bitmapvector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Raster Form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PE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M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hamu-grad"/>
          <p:cNvPicPr/>
          <p:nvPr/>
        </p:nvPicPr>
        <p:blipFill>
          <a:blip r:embed="rId1"/>
          <a:stretch/>
        </p:blipFill>
        <p:spPr>
          <a:xfrm>
            <a:off x="7696080" y="0"/>
            <a:ext cx="971640" cy="1219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scene"/>
          <p:cNvPicPr/>
          <p:nvPr/>
        </p:nvPicPr>
        <p:blipFill>
          <a:blip r:embed="rId2"/>
          <a:srcRect l="2839" t="3924" r="3546" b="7848"/>
          <a:stretch/>
        </p:blipFill>
        <p:spPr>
          <a:xfrm>
            <a:off x="4103640" y="1447920"/>
            <a:ext cx="4584600" cy="31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icons3"/>
          <p:cNvPicPr/>
          <p:nvPr/>
        </p:nvPicPr>
        <p:blipFill>
          <a:blip r:embed="rId3"/>
          <a:srcRect l="0" t="0" r="34991" b="0"/>
          <a:stretch/>
        </p:blipFill>
        <p:spPr>
          <a:xfrm>
            <a:off x="1143000" y="5105520"/>
            <a:ext cx="67057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F – Graphics Interchange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2189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Standard format for animation on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y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sless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56 (8-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19720" y="1218960"/>
            <a:ext cx="4495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mon format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p art, animations, icons, lo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ple diagrams, line draw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with large blocks of a single c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phics with transparent area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ges displayed on computer screens and on websi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3520" y="4495680"/>
            <a:ext cx="784836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1219320" y="4648320"/>
            <a:ext cx="3105000" cy="1218960"/>
            <a:chOff x="1219320" y="4648320"/>
            <a:chExt cx="3105000" cy="1218960"/>
          </a:xfrm>
        </p:grpSpPr>
        <p:pic>
          <p:nvPicPr>
            <p:cNvPr id="145" name="Picture 4" descr="hamu-grad"/>
            <p:cNvPicPr/>
            <p:nvPr/>
          </p:nvPicPr>
          <p:blipFill>
            <a:blip r:embed="rId1"/>
            <a:stretch/>
          </p:blipFill>
          <p:spPr>
            <a:xfrm>
              <a:off x="3353040" y="4648320"/>
              <a:ext cx="97128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6"/>
            <p:cNvSpPr/>
            <p:nvPr/>
          </p:nvSpPr>
          <p:spPr>
            <a:xfrm>
              <a:off x="1219320" y="54864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imated</a:t>
              </a:r>
              <a:r>
                <a:rPr b="0" lang="en-US" sz="18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 flipV="1">
              <a:off x="3048120" y="5638320"/>
              <a:ext cx="380880" cy="45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JPEG – Joint Photographic Experts Group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76160"/>
            <a:ext cx="4343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s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ors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.7 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4-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quality but larger file size than a G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ktop publishing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otographs and natural ar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nned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ailing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al camera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10" descr="scene"/>
          <p:cNvPicPr/>
          <p:nvPr/>
        </p:nvPicPr>
        <p:blipFill>
          <a:blip r:embed="rId1"/>
          <a:srcRect l="2839" t="3924" r="3546" b="7848"/>
          <a:stretch/>
        </p:blipFill>
        <p:spPr>
          <a:xfrm>
            <a:off x="2133720" y="4876920"/>
            <a:ext cx="25905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MP - Bit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3716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mp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file size - not well suited for transfer across the Internet or for pri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66720" y="1218960"/>
            <a:ext cx="4496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 raster 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ll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screen disp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1523880" y="5348160"/>
            <a:ext cx="6705720" cy="1511640"/>
            <a:chOff x="1523880" y="5348160"/>
            <a:chExt cx="6705720" cy="1511640"/>
          </a:xfrm>
        </p:grpSpPr>
        <p:pic>
          <p:nvPicPr>
            <p:cNvPr id="156" name="Picture 4" descr="icons3"/>
            <p:cNvPicPr/>
            <p:nvPr/>
          </p:nvPicPr>
          <p:blipFill>
            <a:blip r:embed="rId1"/>
            <a:srcRect l="0" t="0" r="34991" b="0"/>
            <a:stretch/>
          </p:blipFill>
          <p:spPr>
            <a:xfrm>
              <a:off x="1523880" y="5348160"/>
              <a:ext cx="670572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5"/>
            <p:cNvSpPr/>
            <p:nvPr/>
          </p:nvSpPr>
          <p:spPr>
            <a:xfrm>
              <a:off x="4495680" y="64915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Calibri"/>
                </a:rPr>
                <a:t>Ic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NG – Portable Network Graph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447920"/>
            <a:ext cx="4152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y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ssless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ol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ited for photograp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0" y="1447560"/>
            <a:ext cx="4076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ing GIF and TIFF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 viewing of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 examples at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Calibri"/>
                <a:hlinkClick r:id="rId1"/>
              </a:rPr>
              <a:t>http://graphicssoft.about.com/od/freedownloads/l/blfreepng07.h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FF – Tagged Image File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160" y="1218960"/>
            <a:ext cx="4190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i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paren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ailable in compressed and un-compressed form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is adv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ors 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6 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4-b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10160" y="121896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rage container for faxes and other digital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store raw bitmap data by some programs and devices such as scan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resolution pri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ktop Publishing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4:13:11Z</dcterms:created>
  <dc:creator>Bladen Crockett</dc:creator>
  <dc:description/>
  <dc:language>en-US</dc:language>
  <cp:lastModifiedBy>ycsadmin</cp:lastModifiedBy>
  <dcterms:modified xsi:type="dcterms:W3CDTF">2011-06-23T16:12:10Z</dcterms:modified>
  <cp:revision>119</cp:revision>
  <dc:subject/>
  <dc:title>Bitmap Images</dc:title>
</cp:coreProperties>
</file>